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EFA23E0-2392-4C02-8249-F0C6272510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84FB4A-ED78-4D57-A8B9-479A8F7C2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31D762E-7417-4148-9A5E-637270B8611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BB0302E-FB0D-4B5C-B9E1-8029073D1F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C6ED07B-6F23-462B-BA7A-E6DFF009252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ssibly animate this diagram to introduce the pieces one at a time (new reused la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D55D4DF-0E84-42BE-8798-E0ADBA9BF02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F0DB595-35DC-492B-B808-FA8D718D68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5C489B4-5C80-4187-AD22-092A2B2C69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616BBFD-9483-4703-AB99-9E85C9CBD3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08C5181-101E-4356-8FCF-67B9A117EA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ED9381F-C5DE-4FF0-B0E8-E4C5CC0BAEE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0A7A9C0-D839-4052-A2C3-920F523C7FC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FEC4F2A-41F9-4F27-BB3B-F7EFC825F6C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C44A308-B0F7-4E16-860C-AA6DC8E43E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7C1B9F8-E6B5-461D-8AB3-605E38DC315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C83F9F9-BA86-4B2F-9601-7FAEB7E3FA5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DE769C3-9106-4999-ABAC-7E3147830F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497DC0A-11C2-4473-BD45-24304684D19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E428-E5A4-4DE6-A1ED-0039DFD5F65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D59B-FF4E-4FDF-A4A4-F0CDC0FA15B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21C5-4CC1-4CC8-B506-55460066DF8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BB6C-683B-40F9-87CE-C8065C1700D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Placeholder 5" descr=""/>
          <p:cNvPicPr/>
          <p:nvPr/>
        </p:nvPicPr>
        <p:blipFill>
          <a:blip r:embed="rId3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3"/>
          <p:cNvSpPr/>
          <p:nvPr/>
        </p:nvSpPr>
        <p:spPr>
          <a:xfrm>
            <a:off x="4413240" y="6411960"/>
            <a:ext cx="20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for Engineers: Part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6085080" y="6450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Approved for public release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1B72-E0B9-4A9A-A66B-1A58B0BD0D4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6FA4-0772-471A-80F9-1EB223B487B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9BCA-78CE-43BB-A0E2-35EDA6CB8CB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B813-F942-489E-B565-DB2E5570B30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3"/>
          <p:cNvSpPr/>
          <p:nvPr/>
        </p:nvSpPr>
        <p:spPr>
          <a:xfrm>
            <a:off x="4184640" y="640872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Title of the Presentation Goes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724360" y="6411960"/>
            <a:ext cx="341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This material has been approved for public releas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ittsburgh, PA 15213-3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61FD8F1A-C684-4C43-9B84-A2A2EBDDCD5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280" y="17888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ersonal Software Process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r Engineers: Part I</a:t>
            </a:r>
            <a:br>
              <a:rPr sz="4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torial: Using PSP0.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6071760" y="181944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.1 Project Plan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0.1 adds the Program Size Summary for estimated and actual siz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 of size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[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d [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[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[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d [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nd modified [A+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u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5" descr=""/>
          <p:cNvPicPr/>
          <p:nvPr/>
        </p:nvPicPr>
        <p:blipFill>
          <a:blip r:embed="rId1"/>
          <a:srcRect l="2489" t="4461" r="5030" b="2732"/>
          <a:stretch/>
        </p:blipFill>
        <p:spPr>
          <a:xfrm>
            <a:off x="4735440" y="1582560"/>
            <a:ext cx="3462480" cy="50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Size Type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6603840" y="2487600"/>
            <a:ext cx="685800" cy="1754280"/>
          </a:xfrm>
          <a:custGeom>
            <a:avLst/>
            <a:gdLst>
              <a:gd name="textAreaLeft" fmla="*/ 0 w 685800"/>
              <a:gd name="textAreaRight" fmla="*/ 247680 w 685800"/>
              <a:gd name="textAreaTop" fmla="*/ 45720 h 1754280"/>
              <a:gd name="textAreaBottom" fmla="*/ 1708560 h 175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7404120" y="302256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&amp;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1054080" y="1714680"/>
            <a:ext cx="23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4483080" y="1714680"/>
            <a:ext cx="25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1" descr="S11"/>
          <p:cNvPicPr/>
          <p:nvPr/>
        </p:nvPicPr>
        <p:blipFill>
          <a:blip r:embed="rId1"/>
          <a:stretch/>
        </p:blipFill>
        <p:spPr>
          <a:xfrm>
            <a:off x="1084320" y="2451240"/>
            <a:ext cx="53751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17360" y="1709280"/>
            <a:ext cx="741348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9360" indent="-369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4280" indent="-369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is is an enhancement, measure the size of the base program and enter this in the Base (B) space under Act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4280" indent="-369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added and modified size and enter this in the Total Added and Modified (A+M) space under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S12"/>
          <p:cNvPicPr/>
          <p:nvPr/>
        </p:nvPicPr>
        <p:blipFill>
          <a:blip r:embed="rId1"/>
          <a:stretch/>
        </p:blipFill>
        <p:spPr>
          <a:xfrm>
            <a:off x="2103480" y="3913200"/>
            <a:ext cx="49179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Development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017360" y="1709280"/>
            <a:ext cx="741348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93840" indent="-393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lan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393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estimated developmen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393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ed time in phase is then calculated based on the percentage of time in phase for all completed projec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3" descr="S13"/>
          <p:cNvPicPr/>
          <p:nvPr/>
        </p:nvPicPr>
        <p:blipFill>
          <a:blip r:embed="rId1"/>
          <a:stretch/>
        </p:blipFill>
        <p:spPr>
          <a:xfrm>
            <a:off x="1698480" y="3247920"/>
            <a:ext cx="570888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ing Siz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17360" y="1609560"/>
            <a:ext cx="74134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81240" indent="-3812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postmor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-3812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total program size and enter this in the Total Size (T) space under Act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-3812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e deleted size and enter this in the Deleted (D) space under Act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-3812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e modified size and enter this in the Modified (M) space under Ac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S14"/>
          <p:cNvPicPr/>
          <p:nvPr/>
        </p:nvPicPr>
        <p:blipFill>
          <a:blip r:embed="rId1"/>
          <a:stretch/>
        </p:blipFill>
        <p:spPr>
          <a:xfrm>
            <a:off x="2112840" y="3884760"/>
            <a:ext cx="49183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ing Siz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017360" y="1709640"/>
            <a:ext cx="7413480" cy="20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97800" indent="-397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ostmor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3978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 the reused size and enter this in the Reused (R) space under Actu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3978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 or estimate the number of new and changed size that will be added to the reuse library and in the New Reusable space under Act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S15"/>
          <p:cNvPicPr/>
          <p:nvPr/>
        </p:nvPicPr>
        <p:blipFill>
          <a:blip r:embed="rId1"/>
          <a:stretch/>
        </p:blipFill>
        <p:spPr>
          <a:xfrm>
            <a:off x="2141640" y="3903840"/>
            <a:ext cx="49179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principal objective is to measure and estimate the size of the programs that you produce so that you can effectively plan and manage you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torial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this tutorial, you 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PSP0.1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how to use the PSP0.1 process scripts and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repared to use PSP0.1 for program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.1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s of PSP0.1 are to help you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the size of the programs that you produ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 size accounting for the programs that you produ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ccurate and precise size measu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Process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two new process el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improvement proposal (PIP)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counting and coding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ject plan summary has been expan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 Size Summary section has been a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ed time in phase is calculated based on historical time in phase percen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.1 Process Script Ad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dditions to the PSP0.1 process scripts include new steps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and reporting software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ibuting development time over planned project ph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a size counting and coding 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ing process problems and improvement ide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Improvement Proposal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improve your process, you will need to capture process problems and propose improvements for future refer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need to k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problems you have encountered in using th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suggestions you have for process improv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observations and findings from doing th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Improvement Proposal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17720" y="1709640"/>
            <a:ext cx="30700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ould complete a PIP form for each assig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IP holds process improvement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s and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4" descr=""/>
          <p:cNvPicPr/>
          <p:nvPr/>
        </p:nvPicPr>
        <p:blipFill>
          <a:blip r:embed="rId1"/>
          <a:srcRect l="0" t="5647" r="3147" b="2591"/>
          <a:stretch/>
        </p:blipFill>
        <p:spPr>
          <a:xfrm>
            <a:off x="4297320" y="1743120"/>
            <a:ext cx="4332240" cy="45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nd Counting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ing and size counting standards are needed to write the PSP progr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standard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ilored to your language and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ed to make size counting eas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ding standard defines quality-oriented exit criteria for the code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Software Size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PSP, software size measures are used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e the amount of product produced with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ort expended to project total ef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pro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ize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the total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size is measured in LO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ccurately relate size to effort, the different types of LOC in your program are counted separate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4:08Z</dcterms:modified>
  <cp:revision>141</cp:revision>
  <dc:subject/>
  <dc:title>No Slide Title</dc:title>
</cp:coreProperties>
</file>